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853242"/>
        <c:axId val="77462440"/>
      </c:barChart>
      <c:catAx>
        <c:axId val="50853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62440"/>
        <c:crosses val="autoZero"/>
        <c:auto val="1"/>
        <c:lblAlgn val="ctr"/>
        <c:lblOffset val="100"/>
        <c:noMultiLvlLbl val="0"/>
      </c:catAx>
      <c:valAx>
        <c:axId val="774624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53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580-4EFE-406A-89C9-7521A0B1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8D89-106A-4AB1-8B38-4F687CDC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C980-F53A-4ECA-82AB-73DF21E9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90D-6442-4DD2-BC49-7D7458B2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F976-144A-45D2-A9D2-DDD61B65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DCD1-7E00-4BD9-89A3-D68F2DE5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C82F-F7B3-4A07-B90D-D1F791A8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B823-3678-4892-B066-719E6E4F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F7A2-7371-4117-8727-7310966C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A298-AA10-45BD-A09D-D5DDE209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3A01-7324-4B2F-A596-F4F4F425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1CFA-2C69-4F6E-A399-67191ED3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B3396-7BE7-4568-A750-FF6D3B0C27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