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52018"/>
        <c:axId val="1853126"/>
      </c:barChart>
      <c:catAx>
        <c:axId val="98352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3126"/>
        <c:crosses val="autoZero"/>
        <c:auto val="1"/>
        <c:lblAlgn val="ctr"/>
        <c:lblOffset val="100"/>
        <c:noMultiLvlLbl val="0"/>
      </c:catAx>
      <c:valAx>
        <c:axId val="1853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52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F2C-6293-4D5D-889C-5C8B0D5A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9CB-6D33-4B7A-AAA2-3653FCF9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811-FEAA-4A8F-90ED-2F4D18D0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D03-8693-4285-9C3F-A8C9F1E0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7BD-DDCE-4F38-85B1-CB3BE818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A09-77A2-4CED-94CA-29980476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A2A-C54A-4221-9C60-59AC3214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7241-7245-4432-9848-3B732602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8D5B-F4EF-4D4C-A047-0352F34F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C9CC-0C97-4861-B871-1A753AFE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CA0F-C8F6-4E7E-A495-63679D4A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FA50-58C3-4EE2-B922-C006E6CB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6D5F8-8F38-4BDA-8C80-D072F15A2D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