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77879"/>
        <c:axId val="60508882"/>
      </c:barChart>
      <c:catAx>
        <c:axId val="99778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508882"/>
        <c:crosses val="autoZero"/>
        <c:auto val="1"/>
        <c:lblAlgn val="ctr"/>
        <c:lblOffset val="100"/>
        <c:noMultiLvlLbl val="0"/>
      </c:catAx>
      <c:valAx>
        <c:axId val="605088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78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E989-1BE3-4576-9CC3-6EA2DBB5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B649-EB4D-4589-BA4C-E64B46A4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EDAF-09C7-4C18-A84B-B5395C40A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37B5-AC23-4265-B00D-6F82883FD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0281-FA55-4E90-A9D7-4EDBA7DF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1A5C-30F6-4E88-86CD-446E626E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747B-8AC2-44B6-952C-9C55571D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931D-63FF-4D8D-8A11-08864879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D332-70DD-4B7C-92D0-F5D45574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B7FE-3F0F-40D4-A7DC-86952589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AE96-4C60-499D-9673-12E5FF14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7949-3999-46E9-8479-9E38FBB2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52DE1B-6660-49BC-9ED0-9E021DD9F0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